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BB0-D3EB-45D2-932D-907A28A5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788-89E5-4E80-8B73-78F8CC69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B00-122A-4E7D-85CD-B331CB48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C5E-7DF4-4197-8FAD-0A53E750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B6D9-2CCE-47A9-B660-42B992D2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8849-4379-4D22-B7E0-D99043F1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76E9-6E2D-4185-9FDA-78121C0E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B44E-3DF8-4F34-A771-47A5A66C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D805-C5A5-4D6F-98EA-670EF373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0777-11E6-49BA-AE2B-A5988E06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9E5D-AC5A-415B-B2E9-D2B45CD1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E02-EFC1-4641-A4AC-E3711397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F4C4-840E-4A17-A046-196CF43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8195-4282-4B0E-B0A2-A973C7C3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AD7C-CDB8-4AE3-82E1-ED1AA21E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7DD0-2565-47C5-804E-DAF515FE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816C-9615-45FE-8B41-C54A667E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850-242E-45A8-AEBF-DCE48ED3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38E-AFF8-48FE-8FA6-977B2498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3D0-AF1B-46F0-814A-15A57A03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9D3-97F8-495B-A05C-83056025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A2B-0077-4496-9935-2AF7BC4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F54-132C-4B75-A038-53EABCA9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DCC-4A73-4334-980B-2C57058A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946A-97FB-43C2-B5A5-2F5B2012C4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5DB9-3E15-4134-AC45-F453E39EC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ТРОВСКИЕ РЕФОРМ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375444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юдей, насильно забирали в солдаты (служба была пожизненно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492360" y="1484280"/>
          <a:ext cx="565164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484280"/>
                    <a:ext cx="565164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3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юди, насильственно согнанные на завод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700280"/>
          <a:ext cx="8136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8136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юди, насильственно согнанные на строительств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989000"/>
          <a:ext cx="3960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989000"/>
                    <a:ext cx="3960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3280" y="1989000"/>
          <a:ext cx="4249800" cy="43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1989000"/>
                    <a:ext cx="42498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ОБРАЗОВАНИЯ ПЕТР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л новую армию и фл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оили заводы и мастер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рывали шко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чатали книги и газ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5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95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45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95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218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БЛАГОДАРЯ ПРЕОБРАЗОВАНИЯМ ПЕТРА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РОССИЯ ПРЕВРАТИЛАСЬ В ОДНО ИЗ СИЛЬНЕЙШИХ ГОСУДАРСТВ ЕВРОПЫ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9:08:55Z</dcterms:created>
  <dc:creator>Администратор</dc:creator>
  <dc:description/>
  <dc:language>en-US</dc:language>
  <cp:lastModifiedBy>Марина</cp:lastModifiedBy>
  <dcterms:modified xsi:type="dcterms:W3CDTF">2007-12-17T17:00:32Z</dcterms:modified>
  <cp:revision>3</cp:revision>
  <dc:subject/>
  <dc:title>ПЕТРОВСКИЕ РЕФОРМЫ</dc:title>
</cp:coreProperties>
</file>