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3.gif" ContentType="image/gif"/>
  <Override PartName="/ppt/media/image6.png" ContentType="image/png"/>
  <Override PartName="/ppt/media/image19.jpeg" ContentType="image/jpeg"/>
  <Override PartName="/ppt/media/image8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2.jpeg" ContentType="image/jpeg"/>
  <Override PartName="/ppt/media/image7.png" ContentType="image/png"/>
  <Override PartName="/ppt/media/image2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wmf" ContentType="image/x-wm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345-7590-407F-918D-2B297185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772F-3D41-425D-A46D-8A3E5D3F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614-81E8-4C98-86C9-E6817296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CA66-3B51-4353-9512-D3A6044B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0843-4D80-42CC-AAC9-2B736080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F8FD-8879-4D2A-B4E5-439F1384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48AD-E79F-4A3C-9ABB-A33EE2EE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C2D4-C5B0-4031-9EA8-D16BC49D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839C-7853-4ECF-A321-83796DC7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3225-5CE9-4303-87CA-2C490D2F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76D3-91BB-48B7-8507-39EBB6EF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93D-3981-4F63-9EE0-6AFED079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1AA9-D5AC-4D12-AA5E-6875EEC4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0168-405E-42EA-856A-38E919D8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B6AE-48D4-48AF-AB06-4B01C3E8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37C7-3115-4A47-B509-519B9466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C8E8-B65E-4A57-8C78-F9164412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FB3-D196-487A-8294-E1647905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24D-A7DA-41D9-832F-D8BD1484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249-8528-42D6-944D-2072C438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576-D551-4CC0-9B8D-A3A0896B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B4B-555E-4D80-9AFB-264612E6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3CF-FFC3-4AF5-95DE-22E4E2F7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135-D939-43C6-BA6F-1323609E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CF30-1863-43C7-B5FB-971A2900F9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2B5D-E61C-4DED-81E4-8B79D9E374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ПРОГУЛКА ПО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 rot="21220200">
            <a:off x="612360" y="2095200"/>
            <a:ext cx="324000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НКТ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 rot="21112200">
            <a:off x="3132000" y="3357720"/>
            <a:ext cx="468180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ЕТЕРБУРГ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732720" y="4437000"/>
            <a:ext cx="1825560" cy="2151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26920" y="4076640"/>
            <a:ext cx="1729080" cy="244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 PAVLOVSK "/>
          <p:cNvPicPr/>
          <p:nvPr/>
        </p:nvPicPr>
        <p:blipFill>
          <a:blip r:embed="rId2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137440" cy="6669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3640" y="2707920"/>
            <a:ext cx="360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Александрийский столп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40360" y="189000"/>
            <a:ext cx="4679640" cy="6408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270792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Дворцовая площад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4" name="" descr="Санкт-Петербург Дворцовая площадь"/>
          <p:cNvPicPr/>
          <p:nvPr/>
        </p:nvPicPr>
        <p:blipFill>
          <a:blip r:embed="rId2"/>
          <a:stretch/>
        </p:blipFill>
        <p:spPr>
          <a:xfrm>
            <a:off x="3708360" y="260280"/>
            <a:ext cx="5148360" cy="6337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6920" y="450720"/>
            <a:ext cx="597708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ворцовый мос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Санкт-Петербург Дворцовый мост"/>
          <p:cNvPicPr/>
          <p:nvPr/>
        </p:nvPicPr>
        <p:blipFill>
          <a:blip r:embed="rId2"/>
          <a:stretch/>
        </p:blipFill>
        <p:spPr>
          <a:xfrm>
            <a:off x="539640" y="1484280"/>
            <a:ext cx="8136000" cy="4897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азведение Дворцового мос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Разведение Дворцового моста"/>
          <p:cNvPicPr/>
          <p:nvPr/>
        </p:nvPicPr>
        <p:blipFill>
          <a:blip r:embed="rId2"/>
          <a:stretch/>
        </p:blipFill>
        <p:spPr>
          <a:xfrm>
            <a:off x="250920" y="1268280"/>
            <a:ext cx="8642160" cy="5256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азведение Дворцового мос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Разведение Дворцового моста"/>
          <p:cNvPicPr/>
          <p:nvPr/>
        </p:nvPicPr>
        <p:blipFill>
          <a:blip r:embed="rId2"/>
          <a:stretch/>
        </p:blipFill>
        <p:spPr>
          <a:xfrm>
            <a:off x="250920" y="1484280"/>
            <a:ext cx="8642160" cy="511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0720" y="396360"/>
            <a:ext cx="74167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Ночной Санкт-Петербур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Ночной Санкт-Петербург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0" y="396360"/>
            <a:ext cx="590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Нарвские воро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Санкт-Петербург Нарвские ворота"/>
          <p:cNvPicPr/>
          <p:nvPr/>
        </p:nvPicPr>
        <p:blipFill>
          <a:blip r:embed="rId2"/>
          <a:stretch/>
        </p:blipFill>
        <p:spPr>
          <a:xfrm>
            <a:off x="395280" y="1197000"/>
            <a:ext cx="8424720" cy="5472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Эрмитаж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Санкт-Петербург Эрмитаж"/>
          <p:cNvPicPr/>
          <p:nvPr/>
        </p:nvPicPr>
        <p:blipFill>
          <a:blip r:embed="rId2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227628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Ростральные колонн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" descr="Санкт-Петербург Ростральные колонны"/>
          <p:cNvPicPr/>
          <p:nvPr/>
        </p:nvPicPr>
        <p:blipFill>
          <a:blip r:embed="rId2"/>
          <a:stretch/>
        </p:blipFill>
        <p:spPr>
          <a:xfrm>
            <a:off x="3924360" y="260280"/>
            <a:ext cx="4968720" cy="6597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2060280"/>
            <a:ext cx="33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Банковский мост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3" name="" descr="Санкт-Петербург Банковский мост"/>
          <p:cNvPicPr/>
          <p:nvPr/>
        </p:nvPicPr>
        <p:blipFill>
          <a:blip r:embed="rId2"/>
          <a:stretch/>
        </p:blipFill>
        <p:spPr>
          <a:xfrm>
            <a:off x="3276720" y="260280"/>
            <a:ext cx="5543280" cy="6337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0720" y="396720"/>
            <a:ext cx="76327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Университетская набережная Сфинкс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Санкт-Петербург Университетская набережная Сфинкс"/>
          <p:cNvPicPr/>
          <p:nvPr/>
        </p:nvPicPr>
        <p:blipFill>
          <a:blip r:embed="rId2"/>
          <a:stretch/>
        </p:blipFill>
        <p:spPr>
          <a:xfrm>
            <a:off x="468360" y="155736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2360" y="39636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Египетский мос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Санкт-Петербург Египетский мост"/>
          <p:cNvPicPr/>
          <p:nvPr/>
        </p:nvPicPr>
        <p:blipFill>
          <a:blip r:embed="rId2"/>
          <a:stretch/>
        </p:blipFill>
        <p:spPr>
          <a:xfrm>
            <a:off x="250920" y="1628640"/>
            <a:ext cx="8893080" cy="4969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Атланты у Эрмитаж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1" name="" descr="Санкт-Петербург Атланты у Эрмитажа"/>
          <p:cNvPicPr/>
          <p:nvPr/>
        </p:nvPicPr>
        <p:blipFill>
          <a:blip r:embed="rId2"/>
          <a:stretch/>
        </p:blipFill>
        <p:spPr>
          <a:xfrm>
            <a:off x="3348000" y="0"/>
            <a:ext cx="5472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2720" y="396360"/>
            <a:ext cx="590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мольный Собор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Санкт-Петербург Смольный Собор"/>
          <p:cNvPicPr/>
          <p:nvPr/>
        </p:nvPicPr>
        <p:blipFill>
          <a:blip r:embed="rId2"/>
          <a:stretch/>
        </p:blipFill>
        <p:spPr>
          <a:xfrm>
            <a:off x="250920" y="1268280"/>
            <a:ext cx="8642160" cy="5329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2720" y="396360"/>
            <a:ext cx="5616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азанский Собор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Санкт-Петербург Казанский Собор"/>
          <p:cNvPicPr/>
          <p:nvPr/>
        </p:nvPicPr>
        <p:blipFill>
          <a:blip r:embed="rId2"/>
          <a:stretch/>
        </p:blipFill>
        <p:spPr>
          <a:xfrm>
            <a:off x="250920" y="1341360"/>
            <a:ext cx="8642160" cy="5327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рка Главного Штаб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Санкт-Петербург Арка Главного Штаба"/>
          <p:cNvPicPr/>
          <p:nvPr/>
        </p:nvPicPr>
        <p:blipFill>
          <a:blip r:embed="rId2"/>
          <a:stretch/>
        </p:blipFill>
        <p:spPr>
          <a:xfrm>
            <a:off x="468360" y="1557360"/>
            <a:ext cx="8207280" cy="5300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олесница Победы на Арке Главного Штаб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Санкт-Петрбург Колесница Победы на Арке Главного Штаба "/>
          <p:cNvPicPr/>
          <p:nvPr/>
        </p:nvPicPr>
        <p:blipFill>
          <a:blip r:embed="rId2"/>
          <a:stretch/>
        </p:blipFill>
        <p:spPr>
          <a:xfrm>
            <a:off x="324000" y="1557360"/>
            <a:ext cx="842472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 Hermitage 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 Russian Museum 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6360" y="396720"/>
            <a:ext cx="65516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аакиевский Собо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 "/>
          <p:cNvPicPr/>
          <p:nvPr/>
        </p:nvPicPr>
        <p:blipFill>
          <a:blip r:embed="rId2"/>
          <a:stretch/>
        </p:blipFill>
        <p:spPr>
          <a:xfrm>
            <a:off x="250920" y="1268280"/>
            <a:ext cx="8893080" cy="5589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188424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ас на Кров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 "/>
          <p:cNvPicPr/>
          <p:nvPr/>
        </p:nvPicPr>
        <p:blipFill>
          <a:blip r:embed="rId2"/>
          <a:stretch/>
        </p:blipFill>
        <p:spPr>
          <a:xfrm>
            <a:off x="2556000" y="260280"/>
            <a:ext cx="6337080" cy="6597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пас на Кров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Санкт-Петербург Спас на Крови"/>
          <p:cNvPicPr/>
          <p:nvPr/>
        </p:nvPicPr>
        <p:blipFill>
          <a:blip r:embed="rId2"/>
          <a:stretch/>
        </p:blipFill>
        <p:spPr>
          <a:xfrm>
            <a:off x="3059280" y="260280"/>
            <a:ext cx="5762520" cy="6408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662472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АРИИНСКИЙ ТЕАТ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 MARIINSKY Theatre "/>
          <p:cNvPicPr/>
          <p:nvPr/>
        </p:nvPicPr>
        <p:blipFill>
          <a:blip r:embed="rId3"/>
          <a:stretch/>
        </p:blipFill>
        <p:spPr>
          <a:xfrm>
            <a:off x="539640" y="50133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 "/>
          <p:cNvPicPr/>
          <p:nvPr/>
        </p:nvPicPr>
        <p:blipFill>
          <a:blip r:embed="rId2"/>
          <a:stretch/>
        </p:blipFill>
        <p:spPr>
          <a:xfrm>
            <a:off x="0" y="260280"/>
            <a:ext cx="5651640" cy="6597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09:04:59Z</dcterms:created>
  <dc:creator>Администратор</dc:creator>
  <dc:description/>
  <dc:language>en-US</dc:language>
  <cp:lastModifiedBy>Марина</cp:lastModifiedBy>
  <dcterms:modified xsi:type="dcterms:W3CDTF">2007-12-17T16:59:04Z</dcterms:modified>
  <cp:revision>3</cp:revision>
  <dc:subject/>
  <dc:title>ПРОГУЛКА ПО</dc:title>
</cp:coreProperties>
</file>